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0BC-F267-4BE3-8284-B5FBA195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357-913C-4875-9497-5D2E83E0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C0B-0B5F-4F90-A6E5-39E8247C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F73-B748-4B79-A733-232CE732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E76-7568-4D65-B375-55868D61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3EF-0D63-43C7-ABBB-7A37819B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150-FA82-4886-9F16-04EF197F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960-DF63-4DEA-AD97-E4D7941B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C67-72D1-4A35-B742-550B700D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AD9-F46B-4482-BF8F-3B32325E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FDC-A7F6-4CCD-AB55-BC196CE8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AE8-DCA1-40E7-92EA-17C54EB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98F8-D44F-4875-89CF-92AD29531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9:11:28Z</dcterms:created>
  <dc:creator>\</dc:creator>
  <dc:description/>
  <dc:language>en-US</dc:language>
  <cp:lastModifiedBy>\</cp:lastModifiedBy>
  <dcterms:modified xsi:type="dcterms:W3CDTF">2009-09-16T09:12:17Z</dcterms:modified>
  <cp:revision>1</cp:revision>
  <dc:subject/>
  <dc:title>Slide 1</dc:title>
</cp:coreProperties>
</file>